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6E0-5BD1-45F6-9472-CCC92FEB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D0D-D1ED-4497-B8D6-36F3AD99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D62-16F6-4B4D-910D-7314CD64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4BB-B3B5-4367-B521-FA76F6D4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9E64-C88C-4E5B-A92F-A281F2BE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8FF3-22AC-46A8-913F-2F459511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82EC-7992-4E6C-AA2F-D8B0BD76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E95D-9732-455F-865D-F9672AC0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BE54-1BE3-40EF-AF8F-EB353A1A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0D57-3300-4A3E-8268-50F840AB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6362-E4B8-465D-81FB-4AC95A1F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434-B81E-4502-8D9C-D8B9CBEE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2310-2B1E-42C5-897A-E0DF350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102E-CA28-4B5B-9049-C902A128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85BF-99D1-4473-BBE2-191416B6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1854-57F9-4786-A77A-393C8A5A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B294-38D9-4D1C-9E2B-66C3B40F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E8A-6B84-450D-A1C3-C7193A5B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98C-9ACE-4392-9D3A-C3264FD4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980-AA4F-48EE-88AC-C2407DF1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02E-DAD8-4CC5-A2C2-B12EE6D7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4B5-5EA2-4750-B62F-29FCF59B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054-2135-4A62-B889-1C7D8EEA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CE8-FD8C-4DD9-A3FE-114B1180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77EA-038A-4D3B-80CD-9AE54A316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30D4-0893-4A85-900C-4E5D51992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5%20Indicators%20of%20a%20Chemical%20Change.ppt" TargetMode="External"/><Relationship Id="rId2" Type="http://schemas.openxmlformats.org/officeDocument/2006/relationships/hyperlink" Target="http://www.youtube.com/watch?v=84v8yRPwo5A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520" y="1142640"/>
            <a:ext cx="4952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43400" y="259092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om this lesson you will be able to determine if a chemical change has taken place (IPC 8A &amp; Chem 4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you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35326916[1]"/>
          <p:cNvPicPr/>
          <p:nvPr/>
        </p:nvPicPr>
        <p:blipFill>
          <a:blip r:embed="rId1"/>
          <a:stretch/>
        </p:blipFill>
        <p:spPr>
          <a:xfrm>
            <a:off x="-304920" y="35244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85800" y="1447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A Temperatur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04920" y="2133720"/>
            <a:ext cx="853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+ 2 N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CN --&gt; Ba(SCN)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+ 2 N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1676520" y="2762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emperature Chang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an indicator of a Chemical 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600200" y="41911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ndotherm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tions = absorb heat and feel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Instant Ice Packs"/>
          <p:cNvPicPr/>
          <p:nvPr/>
        </p:nvPicPr>
        <p:blipFill>
          <a:blip r:embed="rId2"/>
          <a:stretch/>
        </p:blipFill>
        <p:spPr>
          <a:xfrm>
            <a:off x="5486400" y="4038480"/>
            <a:ext cx="944640" cy="10670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0"/>
          <p:cNvSpPr/>
          <p:nvPr/>
        </p:nvSpPr>
        <p:spPr>
          <a:xfrm>
            <a:off x="2514600" y="554040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therm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tions = release heat and fee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://ts1.mm.bing.net/images/thumbnail.aspx?q=1413484326124&amp;id=0172235128e6cc1feb20eaad7895cb7f&amp;url=http%3a%2f%2fwww.ecarepackage.org%2fecareshop%2fimages%2fhand%2520warmer.jpg"/>
          <p:cNvPicPr/>
          <p:nvPr/>
        </p:nvPicPr>
        <p:blipFill>
          <a:blip r:embed="rId3"/>
          <a:stretch/>
        </p:blipFill>
        <p:spPr>
          <a:xfrm>
            <a:off x="6248520" y="5257800"/>
            <a:ext cx="102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1"/>
          <p:cNvSpPr/>
          <p:nvPr/>
        </p:nvSpPr>
        <p:spPr>
          <a:xfrm>
            <a:off x="914400" y="533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04920" y="106668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The 5 Indicators of a Chemical Change a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304920" y="19051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1.  Production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04920" y="2743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 Production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1752480" y="366696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 Permanent Col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1828800" y="4572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Formation of  a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2286000" y="541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.  Temperatur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View Image"/>
          <p:cNvPicPr/>
          <p:nvPr/>
        </p:nvPicPr>
        <p:blipFill>
          <a:blip r:embed="rId1"/>
          <a:stretch/>
        </p:blipFill>
        <p:spPr>
          <a:xfrm>
            <a:off x="6781680" y="3352680"/>
            <a:ext cx="1552680" cy="100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hemistryland.com/CHM107Lab/SafetyTutorial1/sparkler.jpg"/>
          <p:cNvPicPr/>
          <p:nvPr/>
        </p:nvPicPr>
        <p:blipFill>
          <a:blip r:embed="rId2"/>
          <a:stretch/>
        </p:blipFill>
        <p:spPr>
          <a:xfrm>
            <a:off x="4343400" y="2743200"/>
            <a:ext cx="846000" cy="79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core.ecu.edu/chem/chemlab/exper20/images/fizz3.jpg"/>
          <p:cNvPicPr/>
          <p:nvPr/>
        </p:nvPicPr>
        <p:blipFill>
          <a:blip r:embed="rId3"/>
          <a:stretch/>
        </p:blipFill>
        <p:spPr>
          <a:xfrm>
            <a:off x="5334120" y="1676520"/>
            <a:ext cx="987480" cy="1109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http://ts1.mm.bing.net/images/thumbnail.aspx?q=1581718249672&amp;id=9922fc45283e6cf1dc8ede910f953285&amp;url=http%3a%2f%2fwww.harpercollege.edu%2ftm-ps%2fchm%2f100%2fdgodambe%2fthedisk%2fchemrxn%2fhrxn.jpg"/>
          <p:cNvPicPr/>
          <p:nvPr/>
        </p:nvPicPr>
        <p:blipFill>
          <a:blip r:embed="rId4"/>
          <a:stretch/>
        </p:blipFill>
        <p:spPr>
          <a:xfrm>
            <a:off x="7086600" y="4495680"/>
            <a:ext cx="1066680" cy="820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Instant Ice Packs"/>
          <p:cNvPicPr/>
          <p:nvPr/>
        </p:nvPicPr>
        <p:blipFill>
          <a:blip r:embed="rId5"/>
          <a:stretch/>
        </p:blipFill>
        <p:spPr>
          <a:xfrm>
            <a:off x="6629400" y="5486400"/>
            <a:ext cx="944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59984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Live Chem websit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hem.ox.ac.uk/vrchemistry/LiveChem/transitionmetals_conten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in the Virtual Chemistry Lab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perform the following 5 experi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cord whether they demonstrate a chemical change.  The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choose 5 other experimental mixes of your ow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cord whether they demonstrate a chemical change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 the 5 Indicators of a Chemical Change to support your findings for all 10 experiments condu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next slide for the Lab Write-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838080" y="533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 Indicators of a Chemical Chang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380880" y="9907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urpose of this lab experiment is to determine whether a chemical change has taken place using the 5 indicators of a chemical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fety Equipment Necess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you were performing these experiments in the laboratory, what safety measures would you need to take to ensure your safety and the safety of others aroun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2057400" y="26668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81080" y="3048120"/>
          <a:ext cx="6782040" cy="3230280"/>
        </p:xfrm>
        <a:graphic>
          <a:graphicData uri="http://schemas.openxmlformats.org/drawingml/2006/table">
            <a:tbl>
              <a:tblPr/>
              <a:tblGrid>
                <a:gridCol w="1295640"/>
                <a:gridCol w="228600"/>
                <a:gridCol w="1600200"/>
                <a:gridCol w="1600200"/>
                <a:gridCol w="2057400"/>
              </a:tblGrid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t from the To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gent from the Bott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there a chemical chang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to support your finding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 Turni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 Granu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NO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246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Chemical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change that occurs when a substance changes composition b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ing one or more new subst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209680" y="5181480"/>
            <a:ext cx="5943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05120" y="3200400"/>
            <a:ext cx="6858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substances/products that are forme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a different chemical formu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original substances/reactants at the beg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a look at the video of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Hydrochloric Acid (HCl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cting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agnesium (Mg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rips. 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What do you observe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dicates a chemical change is taking pl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ShockwaveFlash1"/>
          <p:cNvGraphicFramePr/>
          <p:nvPr/>
        </p:nvGraphicFramePr>
        <p:xfrm>
          <a:off x="4038480" y="3200400"/>
          <a:ext cx="44197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200400"/>
                    <a:ext cx="4419720" cy="312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you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35326916[1]"/>
          <p:cNvPicPr/>
          <p:nvPr/>
        </p:nvPicPr>
        <p:blipFill>
          <a:blip r:embed="rId2"/>
          <a:stretch/>
        </p:blipFill>
        <p:spPr>
          <a:xfrm>
            <a:off x="640080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85800" y="1371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752480" y="190512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 + 2HCl        Mg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8"/>
          <p:cNvCxnSpPr/>
          <p:nvPr/>
        </p:nvCxnSpPr>
        <p:spPr>
          <a:xfrm>
            <a:off x="4114800" y="213372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TextBox 9"/>
          <p:cNvSpPr/>
          <p:nvPr/>
        </p:nvSpPr>
        <p:spPr>
          <a:xfrm>
            <a:off x="1447920" y="25146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000"/>
                </a:solidFill>
                <a:uFillTx/>
                <a:latin typeface="Arial"/>
              </a:rPr>
              <a:t>Production of Gas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an indicator of a Chemical 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990720" y="47242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reaction is very similar to the reactions that take place in the digestive track whe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chloric Acid (HCl) in your stomach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ds in the digestive process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gestion is a chemical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a look at the video of a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agnesium (Mg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rip reacting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xygen (O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burning. 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What do you observe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dicates a chemical change is taking pl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>
            <a:hlinkClick r:id="rId1"/>
          </p:cNvPr>
          <p:cNvSpPr/>
          <p:nvPr/>
        </p:nvSpPr>
        <p:spPr>
          <a:xfrm>
            <a:off x="3429000" y="3124080"/>
            <a:ext cx="510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73392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84v8yRPwo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you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35326916[1]"/>
          <p:cNvPicPr/>
          <p:nvPr/>
        </p:nvPicPr>
        <p:blipFill>
          <a:blip r:embed="rId1"/>
          <a:stretch/>
        </p:blipFill>
        <p:spPr>
          <a:xfrm>
            <a:off x="-304920" y="35244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685800" y="1447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514600" y="213372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2Mg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8"/>
          <p:cNvCxnSpPr/>
          <p:nvPr/>
        </p:nvCxnSpPr>
        <p:spPr>
          <a:xfrm>
            <a:off x="4267080" y="2437920"/>
            <a:ext cx="457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9"/>
          <p:cNvSpPr/>
          <p:nvPr/>
        </p:nvSpPr>
        <p:spPr>
          <a:xfrm>
            <a:off x="2819520" y="281952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rmation of Ligh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an indicator of a Chemical 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133720" y="46483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the same reaction that is used to make fireworks and sparkl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View Image"/>
          <p:cNvPicPr/>
          <p:nvPr/>
        </p:nvPicPr>
        <p:blipFill>
          <a:blip r:embed="rId2"/>
          <a:stretch/>
        </p:blipFill>
        <p:spPr>
          <a:xfrm>
            <a:off x="6629400" y="502920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a look at the video of two clear liquids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ead II Nitrate Pb(NO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cting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otassium Iodide (KI). 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What do you observ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dicates a chemical change is taking pl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ShockwaveFlash1"/>
          <p:cNvGraphicFramePr/>
          <p:nvPr/>
        </p:nvGraphicFramePr>
        <p:xfrm>
          <a:off x="4191120" y="3276720"/>
          <a:ext cx="44193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276720"/>
                    <a:ext cx="4419360" cy="312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you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35326916[1]"/>
          <p:cNvPicPr/>
          <p:nvPr/>
        </p:nvPicPr>
        <p:blipFill>
          <a:blip r:embed="rId1"/>
          <a:stretch/>
        </p:blipFill>
        <p:spPr>
          <a:xfrm>
            <a:off x="-304920" y="352440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685800" y="1371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ellow Color Change an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cipitate (insoluble sol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676520" y="2438280"/>
            <a:ext cx="647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KI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bI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 2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8"/>
          <p:cNvCxnSpPr/>
          <p:nvPr/>
        </p:nvCxnSpPr>
        <p:spPr>
          <a:xfrm>
            <a:off x="4419720" y="27432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TextBox 9"/>
          <p:cNvSpPr/>
          <p:nvPr/>
        </p:nvSpPr>
        <p:spPr>
          <a:xfrm>
            <a:off x="1676520" y="31240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ermanent Color Chan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Formation of a Precipita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two indicators of a Chemica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362320" y="48769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s like these a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in water treatment pla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orm precipitates th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 remove calcium, magnesium, iron, and manganese 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Indicators of a 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a look at the video of two solids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Barium Hydroxide Octahydr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cting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Ammonium Thiocyan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What do you observ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ndicates a chemical change is taking pl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ShockwaveFlash1"/>
          <p:cNvGraphicFramePr/>
          <p:nvPr/>
        </p:nvGraphicFramePr>
        <p:xfrm>
          <a:off x="4191120" y="3276720"/>
          <a:ext cx="44193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276720"/>
                    <a:ext cx="4419360" cy="312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21:01:33Z</dcterms:created>
  <dc:creator>Carlton Downey</dc:creator>
  <dc:description/>
  <dc:language>en-US</dc:language>
  <cp:lastModifiedBy>Carlton Downey</cp:lastModifiedBy>
  <dcterms:modified xsi:type="dcterms:W3CDTF">2011-01-25T05:23:44Z</dcterms:modified>
  <cp:revision>154</cp:revision>
  <dc:subject/>
  <dc:title>Earth Chemistry</dc:title>
</cp:coreProperties>
</file>